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C874-68A1-4886-8287-430F11E0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3FE-AB35-436F-B1FB-C557B6EC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F56-9920-48C2-8AB6-3CAB93B8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DF1-24F5-40F2-B524-2F0058DA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F07-022C-4F74-B310-FD2EC482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ADB-FC41-4CED-941F-A425F62E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ECDF-E997-4568-8530-1E963B89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090-1E98-4187-BA3B-6385886F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AAD-7562-40BD-85BD-CF564279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A906-B7FE-463C-90FD-7086B144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FE9B-4E28-4DFC-B298-B8BE31F4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F8B-25B5-456F-BA56-F1CA4F37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50D6-48CC-48DC-B8D2-9B7245597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368960" y="1828800"/>
            <a:ext cx="5046480" cy="4160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65120" y="2743200"/>
            <a:ext cx="2303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e scenery that the Battle of Tanga took place i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5078520" cy="5137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05600" y="2641680"/>
            <a:ext cx="2852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German soldiers ready to fire on the enemy at the Battle of Tang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07960" y="1828800"/>
            <a:ext cx="5699160" cy="4238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54920" y="2540160"/>
            <a:ext cx="2254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Multiple soldiers dead at the Battle of Tang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064040" y="1625760"/>
            <a:ext cx="5535720" cy="4408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0560" y="2540160"/>
            <a:ext cx="2390760" cy="20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One of the types of cannons used as artillery during WWI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6440" y="1523880"/>
            <a:ext cx="5699160" cy="4802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546960" y="2394000"/>
            <a:ext cx="30319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oldiers shooting at each other from close range and very little cover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486400" y="1219320"/>
            <a:ext cx="3494160" cy="561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6200" y="1955880"/>
            <a:ext cx="4118040" cy="20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A portrait of Lettow-Vorbeck, commander of German military forces in the campaign in German East Africa during WW I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454560" y="1625760"/>
            <a:ext cx="6234120" cy="4898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54120" y="2235240"/>
            <a:ext cx="2414520" cy="29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oldiers with bolt action rifles and bayonets charging and shooting at the enem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7960" y="1422360"/>
            <a:ext cx="6489720" cy="5321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59480" y="2540160"/>
            <a:ext cx="229572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Map of the location where the Battle of Tanga took plac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267080" y="1320840"/>
            <a:ext cx="4587840" cy="4870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57160" y="2438280"/>
            <a:ext cx="2714760" cy="20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Propaganda used during WWI to try to get citizens to join the wa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619760" cy="2768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84440" y="4165560"/>
            <a:ext cx="518652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A picture of one  of the bolt action rifles that were used so commonly in WWI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